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C18-D615-4F4B-BBC8-98C1DDAB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17B-22B8-4403-8C09-81A37070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1A9-9CAF-45F4-9461-1B1FA88B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EF2-0D45-4E84-AE4B-DEC30D81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BF4-8C69-4D2A-A4A9-7D9EC18C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0BE-BB93-47C1-B730-33EE3C9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C8B-F3CD-4FC6-8B79-25C88FEF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3C5-CAB1-47CF-AC3D-1829B87F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6C4-C9E6-4BA4-A1F7-19F2A7AC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0B7-ECDB-4E78-8E5D-1CD87F77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822-AFC0-4253-BCA9-1E20253C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AC2-3D6B-47FD-B92E-03533CB2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8E12-AEB8-4823-9A69-8CD3C5C99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guage of Algeb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can use mathematical shorthand to represent a word probl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in your homework, you found out that you had to take a number and multiply it by two and then add th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ould w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720" y="4876920"/>
            <a:ext cx="232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n +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your group, choose a variable (letter like n) to represent “a number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algebraic expression to describe the phr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wo more than three times a number would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n +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an algebraic expression f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more than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less than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subtracted from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imes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a number and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divided by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more than double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imes a number, decreased by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a number and -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Tw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READ algebraic expressions in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n + 8 could be rea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times a number plus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more than three times a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um of 8 and three times a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into Wo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+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+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–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m +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– 9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Thr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back to your answers in Activity 1 and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words and phrases that appear to indicate either addition or subtraction.  Make another list of words and phrases that appear to indicate either multiplication or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62 in your text b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0:38:19Z</dcterms:created>
  <dc:creator>admin</dc:creator>
  <dc:description/>
  <dc:language>en-US</dc:language>
  <cp:lastModifiedBy>admin</cp:lastModifiedBy>
  <dcterms:modified xsi:type="dcterms:W3CDTF">2008-02-06T21:14:45Z</dcterms:modified>
  <cp:revision>3</cp:revision>
  <dc:subject/>
  <dc:title>The Language of Algebra </dc:title>
</cp:coreProperties>
</file>